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4D8-93E3-4670-A7AA-12E50A8F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429-FC2A-4041-9D50-48FD8A8F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051-0A32-4C2C-AFDE-375C623C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F9C-59A5-4DBB-85BB-B4C95893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C75-76EF-4DF0-A25B-CFF4B774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4E8-B181-4330-94B7-1FFC7350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CEA-2EBC-4ADB-A529-122E513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4D9-1318-4A0B-A2D8-C9DDEFBF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CF4-1432-413A-973C-BF347C09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6E6-B104-479B-9400-E7F59EC6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BC6-6A9D-498C-8612-C8A81FC2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8BF-CC69-4931-BC84-6FAEE7FA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6457-D3FF-492C-905B-BDED881F1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276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67652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jor Process for: Identifying and Processing Material Substitu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Owner: 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752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733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1752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23623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3743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&amp;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243160"/>
            <a:ext cx="106668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2286000"/>
            <a:ext cx="1004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3657600"/>
            <a:ext cx="1127160" cy="547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705120"/>
            <a:ext cx="1004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mit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stitution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Liaison E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3490920"/>
            <a:ext cx="114300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ward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inal Dis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orm M9670)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057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16765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2670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6"/>
            <a:endCxn id="50" idx="1"/>
          </p:cNvCxnSpPr>
          <p:nvPr/>
        </p:nvCxnSpPr>
        <p:spPr>
          <a:xfrm flipV="1">
            <a:off x="2514600" y="2514600"/>
            <a:ext cx="30528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0" idx="2"/>
            <a:endCxn id="61" idx="0"/>
          </p:cNvCxnSpPr>
          <p:nvPr/>
        </p:nvCxnSpPr>
        <p:spPr>
          <a:xfrm>
            <a:off x="3322080" y="2743200"/>
            <a:ext cx="360" cy="27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2"/>
            <a:endCxn id="51" idx="1"/>
          </p:cNvCxnSpPr>
          <p:nvPr/>
        </p:nvCxnSpPr>
        <p:spPr>
          <a:xfrm flipH="1" rot="16200000">
            <a:off x="3224160" y="3574440"/>
            <a:ext cx="455400" cy="25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64" idx="2"/>
          </p:cNvCxnSpPr>
          <p:nvPr/>
        </p:nvCxnSpPr>
        <p:spPr>
          <a:xfrm flipV="1">
            <a:off x="4708440" y="3505320"/>
            <a:ext cx="214200" cy="42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4" idx="3"/>
            <a:endCxn id="52" idx="0"/>
          </p:cNvCxnSpPr>
          <p:nvPr/>
        </p:nvCxnSpPr>
        <p:spPr>
          <a:xfrm>
            <a:off x="5424480" y="3276720"/>
            <a:ext cx="107640" cy="428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629240" y="3790800"/>
            <a:ext cx="30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5053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1828800"/>
            <a:ext cx="761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: D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1040" y="45720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591080"/>
            <a:ext cx="1004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te and sub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 M96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 CP01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52" idx="2"/>
            <a:endCxn id="70" idx="0"/>
          </p:cNvCxnSpPr>
          <p:nvPr/>
        </p:nvCxnSpPr>
        <p:spPr>
          <a:xfrm>
            <a:off x="5531760" y="4162320"/>
            <a:ext cx="36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1" idx="0"/>
            <a:endCxn id="73" idx="2"/>
          </p:cNvCxnSpPr>
          <p:nvPr/>
        </p:nvCxnSpPr>
        <p:spPr>
          <a:xfrm flipH="1" flipV="1" rot="5400000">
            <a:off x="5516640" y="1249920"/>
            <a:ext cx="1036080" cy="378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924680" y="2347920"/>
            <a:ext cx="1143000" cy="5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 Ta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0" idx="3"/>
            <a:endCxn id="53" idx="2"/>
          </p:cNvCxnSpPr>
          <p:nvPr/>
        </p:nvCxnSpPr>
        <p:spPr>
          <a:xfrm flipV="1">
            <a:off x="6033960" y="3764880"/>
            <a:ext cx="1891080" cy="10551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419720" y="3048120"/>
            <a:ext cx="10047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 Sub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3019320"/>
            <a:ext cx="1004760" cy="457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gotiate Te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685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Request Temporary Material Sub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Word_bluesmalllogo"/>
          <p:cNvPicPr/>
          <p:nvPr/>
        </p:nvPicPr>
        <p:blipFill>
          <a:blip r:embed="rId1"/>
          <a:stretch/>
        </p:blipFill>
        <p:spPr>
          <a:xfrm>
            <a:off x="177840" y="127080"/>
            <a:ext cx="1422360" cy="33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61722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EING is a trademark of Boeing Management Compan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9 Boeing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44:03Z</dcterms:created>
  <dc:creator>b332564</dc:creator>
  <dc:description/>
  <dc:language>en-US</dc:language>
  <cp:lastModifiedBy>b332564</cp:lastModifiedBy>
  <dcterms:modified xsi:type="dcterms:W3CDTF">2010-07-29T20:45:08Z</dcterms:modified>
  <cp:revision>3</cp:revision>
  <dc:subject/>
  <dc:title>Process</dc:title>
</cp:coreProperties>
</file>