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7EC-369D-47B6-91E9-43BAD6FD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E7D-D42A-4429-862A-46063419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F9A-2F44-4FAA-B0EE-F0B042EB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2B0-DA96-442C-A780-788E05B1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209-3DD6-4CEF-8FD7-A4D1FBC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967-6E0F-44BC-B159-0BFB30F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BC5-BF85-409F-8F48-E7E9A95E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3D-774E-4298-9FE7-1FA1D92C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86C-AF7C-453E-92E4-F9098CC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EB1-003E-466A-BD9A-3A31DAB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BEB-EC4C-4867-A671-3C632C2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B1E-622E-4421-903D-D1519D8A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191-5193-4F86-A0D2-2D082F8D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67652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jor Process for: Identifying and Processing Material Substitu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Owner: 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733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362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3743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&amp;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243160"/>
            <a:ext cx="106668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228600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657600"/>
            <a:ext cx="1127160" cy="547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0512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titution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Liaison E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3490920"/>
            <a:ext cx="114300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ward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inal Dis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orm M9670)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057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167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267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6"/>
            <a:endCxn id="50" idx="1"/>
          </p:cNvCxnSpPr>
          <p:nvPr/>
        </p:nvCxnSpPr>
        <p:spPr>
          <a:xfrm flipV="1">
            <a:off x="2514600" y="2514600"/>
            <a:ext cx="30528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0" idx="2"/>
            <a:endCxn id="61" idx="0"/>
          </p:cNvCxnSpPr>
          <p:nvPr/>
        </p:nvCxnSpPr>
        <p:spPr>
          <a:xfrm>
            <a:off x="3322080" y="2743200"/>
            <a:ext cx="360" cy="27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2"/>
            <a:endCxn id="51" idx="1"/>
          </p:cNvCxnSpPr>
          <p:nvPr/>
        </p:nvCxnSpPr>
        <p:spPr>
          <a:xfrm flipH="1" rot="16200000">
            <a:off x="3224160" y="3574440"/>
            <a:ext cx="455400" cy="25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64" idx="2"/>
          </p:cNvCxnSpPr>
          <p:nvPr/>
        </p:nvCxnSpPr>
        <p:spPr>
          <a:xfrm flipV="1">
            <a:off x="4708440" y="3505320"/>
            <a:ext cx="214200" cy="42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4" idx="3"/>
            <a:endCxn id="52" idx="0"/>
          </p:cNvCxnSpPr>
          <p:nvPr/>
        </p:nvCxnSpPr>
        <p:spPr>
          <a:xfrm>
            <a:off x="5424480" y="3276720"/>
            <a:ext cx="107640" cy="42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629240" y="3790800"/>
            <a:ext cx="3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5053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828800"/>
            <a:ext cx="76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: D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4572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59108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te and sub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 M96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 CP01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52" idx="2"/>
            <a:endCxn id="70" idx="0"/>
          </p:cNvCxnSpPr>
          <p:nvPr/>
        </p:nvCxnSpPr>
        <p:spPr>
          <a:xfrm>
            <a:off x="5531760" y="4162320"/>
            <a:ext cx="3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1" idx="0"/>
            <a:endCxn id="73" idx="2"/>
          </p:cNvCxnSpPr>
          <p:nvPr/>
        </p:nvCxnSpPr>
        <p:spPr>
          <a:xfrm flipH="1" flipV="1" rot="5400000">
            <a:off x="5516640" y="1249920"/>
            <a:ext cx="1036080" cy="37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924680" y="2347920"/>
            <a:ext cx="114300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Ta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0" idx="3"/>
            <a:endCxn id="53" idx="2"/>
          </p:cNvCxnSpPr>
          <p:nvPr/>
        </p:nvCxnSpPr>
        <p:spPr>
          <a:xfrm flipV="1">
            <a:off x="6033960" y="3764880"/>
            <a:ext cx="1891080" cy="10551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419720" y="3048120"/>
            <a:ext cx="1004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 Sub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3019320"/>
            <a:ext cx="1004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gotiate Te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Request Temporary Material Sub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Word_bluesmalllogo"/>
          <p:cNvPicPr/>
          <p:nvPr/>
        </p:nvPicPr>
        <p:blipFill>
          <a:blip r:embed="rId1"/>
          <a:stretch/>
        </p:blipFill>
        <p:spPr>
          <a:xfrm>
            <a:off x="177840" y="127080"/>
            <a:ext cx="1422360" cy="33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61722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EING is a trademark of Boeing Management Compan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Boeing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4:03Z</dcterms:created>
  <dc:creator>b332564</dc:creator>
  <dc:description/>
  <dc:language>en-US</dc:language>
  <cp:lastModifiedBy>b332564</cp:lastModifiedBy>
  <dcterms:modified xsi:type="dcterms:W3CDTF">2010-07-29T20:45:08Z</dcterms:modified>
  <cp:revision>3</cp:revision>
  <dc:subject/>
  <dc:title>Process</dc:title>
</cp:coreProperties>
</file>