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7BC-267D-4465-BD48-BBC3F3D6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927-CE62-4EA1-BE12-53AE89B0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E03-1F03-43A3-BFED-7467D234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795-EA59-40B2-9CED-60E33F7F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28E-964C-4EFA-8936-2677AC48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8D26-83C1-48B3-931E-999CCDD9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F1D-D1A8-40A0-A9AD-0878BCC2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A4A-C817-492E-9DF7-15128966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BE5A-913C-4ADF-99C3-25379AEC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F7F-5305-44D0-AFC0-362A5598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07D6-2267-4978-8470-E2AE77F2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980-678D-4CF7-B3FE-BF4F26F5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591D-0946-488F-831E-59FEF9510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276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167652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jor Process for: Identifying and Processing Material Substitu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 Owner: 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752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17334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1752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680" y="2362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0400" y="3743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&amp;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243160"/>
            <a:ext cx="1066680" cy="5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2286000"/>
            <a:ext cx="100476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3657600"/>
            <a:ext cx="1127160" cy="547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3705120"/>
            <a:ext cx="100476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mit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stitution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Liaison E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24680" y="3490920"/>
            <a:ext cx="1143000" cy="5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ward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inal Dis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orm M9670)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057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16765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2670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6"/>
            <a:endCxn id="50" idx="1"/>
          </p:cNvCxnSpPr>
          <p:nvPr/>
        </p:nvCxnSpPr>
        <p:spPr>
          <a:xfrm flipV="1">
            <a:off x="2514600" y="2514600"/>
            <a:ext cx="30528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0" idx="2"/>
            <a:endCxn id="61" idx="0"/>
          </p:cNvCxnSpPr>
          <p:nvPr/>
        </p:nvCxnSpPr>
        <p:spPr>
          <a:xfrm>
            <a:off x="3322080" y="2743200"/>
            <a:ext cx="360" cy="27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2"/>
            <a:endCxn id="51" idx="1"/>
          </p:cNvCxnSpPr>
          <p:nvPr/>
        </p:nvCxnSpPr>
        <p:spPr>
          <a:xfrm flipH="1" rot="16200000">
            <a:off x="3224160" y="3574440"/>
            <a:ext cx="455400" cy="259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64" idx="2"/>
          </p:cNvCxnSpPr>
          <p:nvPr/>
        </p:nvCxnSpPr>
        <p:spPr>
          <a:xfrm flipV="1">
            <a:off x="4708440" y="3505320"/>
            <a:ext cx="214200" cy="426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4" idx="3"/>
            <a:endCxn id="52" idx="0"/>
          </p:cNvCxnSpPr>
          <p:nvPr/>
        </p:nvCxnSpPr>
        <p:spPr>
          <a:xfrm>
            <a:off x="5424480" y="3276720"/>
            <a:ext cx="107640" cy="428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629240" y="3790800"/>
            <a:ext cx="30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5053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1828800"/>
            <a:ext cx="761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: D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1040" y="45720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4591080"/>
            <a:ext cx="100476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erate and subm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m M96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 CP01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52" idx="2"/>
            <a:endCxn id="70" idx="0"/>
          </p:cNvCxnSpPr>
          <p:nvPr/>
        </p:nvCxnSpPr>
        <p:spPr>
          <a:xfrm>
            <a:off x="5531760" y="4162320"/>
            <a:ext cx="3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51" idx="0"/>
            <a:endCxn id="73" idx="2"/>
          </p:cNvCxnSpPr>
          <p:nvPr/>
        </p:nvCxnSpPr>
        <p:spPr>
          <a:xfrm flipH="1" flipV="1" rot="5400000">
            <a:off x="5516640" y="1249920"/>
            <a:ext cx="1036080" cy="378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7924680" y="2347920"/>
            <a:ext cx="1143000" cy="5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 Ta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70" idx="3"/>
            <a:endCxn id="53" idx="2"/>
          </p:cNvCxnSpPr>
          <p:nvPr/>
        </p:nvCxnSpPr>
        <p:spPr>
          <a:xfrm flipV="1">
            <a:off x="6033960" y="3764880"/>
            <a:ext cx="1891080" cy="10551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419720" y="3048120"/>
            <a:ext cx="100476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erial Substit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3019320"/>
            <a:ext cx="100476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gotiate Ter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685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r Request Temporary Material Sub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Word_bluesmalllogo"/>
          <p:cNvPicPr/>
          <p:nvPr/>
        </p:nvPicPr>
        <p:blipFill>
          <a:blip r:embed="rId1"/>
          <a:stretch/>
        </p:blipFill>
        <p:spPr>
          <a:xfrm>
            <a:off x="177840" y="127080"/>
            <a:ext cx="1422360" cy="330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9480" y="61722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EING is a trademark of Boeing Management Compan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Boeing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44:03Z</dcterms:created>
  <dc:creator>b332564</dc:creator>
  <dc:description/>
  <dc:language>en-US</dc:language>
  <cp:lastModifiedBy>b332564</cp:lastModifiedBy>
  <dcterms:modified xsi:type="dcterms:W3CDTF">2010-07-29T20:45:08Z</dcterms:modified>
  <cp:revision>3</cp:revision>
  <dc:subject/>
  <dc:title>Process</dc:title>
</cp:coreProperties>
</file>